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B38-76E1-4F88-8ADD-202C8F7F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396-CC1E-4314-A22C-8317BA63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2A4-DE7E-4A9C-847F-30BE1E4C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7C7-9206-4B48-B091-FA64F96A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EB2-C80E-4488-B04C-1216CCFA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474-9CEE-462A-B507-FB346679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D7B-32C9-4F27-9D8C-04AAD186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8F0-4655-48B2-BAD8-14F5B8D4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3B4-832D-4EF8-9F3D-34A1ABAF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B80-C306-4CF2-B064-EBDAC161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DFC-AB74-4E80-82DC-ABD2D846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5A3-7020-4E74-8852-DA4B87DE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148B-BD67-4252-8B05-E8DD9E74A1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ációs algeb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ada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ap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 és S uniój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 és S metsz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etí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Arial"/>
              </a:rPr>
              <a:t>cím, év, hossz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(Fil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Arial"/>
              </a:rPr>
              <a:t>színe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(Fil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iválasz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Arial"/>
              </a:rPr>
              <a:t>hossz &gt;100 AND stúdióNév = ‘Fox’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(Fil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fejezésf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lyek a Fox stúdióban készült legalább 100 perc hosszú filmek, és mikor készültek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2781360"/>
            <a:ext cx="93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ím, é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422100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ossz &gt;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221000"/>
            <a:ext cx="22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 baseline="-25000">
                <a:solidFill>
                  <a:srgbClr val="ffffff"/>
                </a:solidFill>
                <a:latin typeface="Arial"/>
              </a:rPr>
              <a:t>stúdióNév = ‘Fox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5516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5589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3716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465300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4653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58920" y="3933720"/>
            <a:ext cx="1368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3933720"/>
            <a:ext cx="129672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1417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hezebbek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lyek azok a PC modellek amelyek sebessége legalább 1700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ly gyártók készítenek legalább 20 GB méretű merevlemez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djuk meg B gyártó által gyártott összes termék modellszámát és árát típustól függetlenü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djuk meg valamennyi színes lézernyomtató modellszám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lyek azok a gyártok akik laptopot árulnak de PC –t nem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lyek azok a HDD méretek amelyek legalább 2 pc –ben megtalálhatók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djuk meg azokat a PC párokat amelyek ugyanolyan gyorsak és a memóriájuk is ugyanakk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 gyártja a leggyorsabb PC –t vagy laptopo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 gyárt 3 kül sebességű PC –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 azok akik pontosan 3 típusú PC-t gyártanak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14:38:47Z</dcterms:created>
  <dc:creator>Nagymáté Péter</dc:creator>
  <dc:description/>
  <dc:language>en-US</dc:language>
  <cp:lastModifiedBy>Nagymáté Péter</cp:lastModifiedBy>
  <dcterms:modified xsi:type="dcterms:W3CDTF">2003-12-18T14:53:00Z</dcterms:modified>
  <cp:revision>2</cp:revision>
  <dc:subject/>
  <dc:title>Relációs algebra</dc:title>
</cp:coreProperties>
</file>